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144-1CDC-4B05-B286-FF86CA65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9F8-E860-4FD2-8265-6AB4B0B8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10AC-D43F-4927-B68C-987308F4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8B1-BE08-419B-A5B6-D7A1484F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325B-8686-4BBB-8EED-EB618AC4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8823-B43B-43F6-90AA-C86C2847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F30B-9EAD-4F2D-9B6F-3EFD443F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A961-CE93-4264-AC46-1B1E0B94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BDE7-E678-48CC-AB44-7F059391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4C7A-D64C-4CA2-B3DB-414EBED3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5F02-8D51-4290-9E6B-FEEB2084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FF3-C767-481E-BAA2-86BC3B30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FE18-6FA9-42B6-B499-483274EB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6CD8-D89F-4EE3-9621-A8F2E808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8D4D-877A-4D9C-A32F-E08642B1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6870-CADF-4080-B009-42404637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3D3F-1EF5-4286-AB27-298DCCC4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C9DA-50E7-48F9-9AC4-4E83FD7E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A03-A5EA-49C9-9AC3-59E07CD5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6B2-0DFE-43F9-9CA7-BF945E3B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C21-4749-4417-AD56-CA1AEBBB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5D0-4D14-4C83-858D-84CA963C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602-7CFC-44AA-9282-F8DDDD0A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DF4-F341-4D5D-9F81-A45163A9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2764-E8FD-44E4-9A21-E9BCE98A233A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0D46-3AEF-4D21-B440-6D2663D1AF45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85920" y="27734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WIELOKĄ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ODZAJE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97000" y="2394000"/>
          <a:ext cx="751680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7000" y="2394000"/>
                    <a:ext cx="751680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ZNACZENI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1449360"/>
          <a:ext cx="6518160" cy="25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49360"/>
                    <a:ext cx="6518160" cy="25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542960" y="1233360"/>
          <a:ext cx="6737400" cy="29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2960" y="1233360"/>
                    <a:ext cx="673740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966240" y="4365000"/>
            <a:ext cx="60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Ćwi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odaj odcinki z jakich zbudowana jest figura I; III i VI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530028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dcink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 jakich zbudowana jest figura nazywamy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okami figu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spólne punk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dcinków nazywamy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wierzchołkam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igu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NAZW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591560"/>
            <a:ext cx="66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Nazwa wielokąta zależy od liczby jego kątów wewnętr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2673360"/>
          <a:ext cx="792144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73360"/>
                    <a:ext cx="792144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NAZW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0200" y="1233000"/>
            <a:ext cx="62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Ćwi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. Oznacz wierzchołki, zaznacz kąty i podaj nazwę fig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Obraz 174" descr=""/>
          <p:cNvPicPr/>
          <p:nvPr/>
        </p:nvPicPr>
        <p:blipFill>
          <a:blip r:embed="rId1"/>
          <a:stretch/>
        </p:blipFill>
        <p:spPr>
          <a:xfrm>
            <a:off x="2411280" y="2241720"/>
            <a:ext cx="446580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NAZW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1233000"/>
            <a:ext cx="836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Ćwi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. Które z figur przedstawionych na rysunku nie są wielokątami i dlacze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az 182" descr=""/>
          <p:cNvPicPr/>
          <p:nvPr/>
        </p:nvPicPr>
        <p:blipFill>
          <a:blip r:embed="rId1"/>
          <a:stretch/>
        </p:blipFill>
        <p:spPr>
          <a:xfrm>
            <a:off x="1511280" y="2421000"/>
            <a:ext cx="651672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NAZWA WIELO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9040" y="1689120"/>
            <a:ext cx="8492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Arial"/>
              </a:rPr>
              <a:t>Wielokąty to figury geometryczne, które maj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- co najmniej trzy kąt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- co najmniej trzy wierzchołki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- co najmniej trzy bok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43:39Z</dcterms:modified>
  <cp:revision>23</cp:revision>
  <dc:subject/>
  <dc:title>Slajd 1</dc:title>
</cp:coreProperties>
</file>